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DE0-40D9-4460-8CE4-91E69EC3F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109-1B06-4B0B-B8BF-EAA760CAB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70E-5A93-4A61-853F-68FAA4E0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576-E0D9-47D8-AF27-94F3485A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3DF-D55C-41B4-95EF-38561904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046-DDE3-405A-98EC-FD30F611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D55-610C-4B70-9E7E-849BCA55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A65-B4AD-4DB2-ABCF-0BA601A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296-65E8-4F23-BCC2-F00D467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A7E-9D76-4C4A-805D-D055B86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6A3-6BE6-470D-B24B-C70A1CC1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F2C-DB9E-4F52-A75D-2CEA0C8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853-8625-4E87-A2D4-2A6D78B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420-DB4E-4FF0-927B-9B962A4E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7FD3-91B8-4CB8-845A-C5004A628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F67-EF3E-438B-9EDC-945F32B26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E8A-9C58-42B5-A6DE-C7D0DA993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5-02T04:27:23Z</dcterms:modified>
  <cp:revision>150</cp:revision>
  <dc:subject/>
  <dc:title>Презентация PowerPoint</dc:title>
</cp:coreProperties>
</file>